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2CA-0E9B-42BF-9E18-0CC1AD23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F3D-AD89-446B-B1E4-33AB7B7A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6D9-4ED5-4067-9231-A81BA3B2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812E-40CA-40CA-847D-DF443717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0509-E417-4E51-BDD2-D8073097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D5F1-6D8B-4372-895A-86E9982D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4470-B30F-4DA8-B194-A64EA18C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FF37-2776-4761-8D47-ADCA2141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5A32-5246-4747-80E4-F496683B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9B91-23C2-438A-A2D5-CF88C089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C259-A305-4E98-A45D-53B44917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29C-423C-4445-8BF1-B1DBAD27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66DE-8B00-4B76-9D5C-D7769C15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56ED-D237-4408-B11C-96659398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6578-C1BE-4329-B0EB-25FED756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DCA4-FFE8-4B0A-9DF2-E0431306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8DFF-DB44-44EB-9384-48DDA3CD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2ABD3-F7CE-40E0-A318-35070CCF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16C3B-C9E8-424A-9D5F-411E0FD8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6172A-731B-48D7-B5FB-A71BAD47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29444-65E8-4001-9519-682008D8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EAD4E-4F9F-4933-A596-71CD3580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D60F-F727-456D-9BEE-E97C3943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3A838-1B65-4458-9EF2-5BF60A2D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3956B-FA3A-4AE3-BDB2-815FB74C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A820-9321-4150-91C1-44BF1940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11A71-9E22-4D2F-B434-629AA554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59BC-DE41-40DA-8910-445F31D8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CC3C5-AFF3-4965-87C6-952B5D44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C690-AA7D-4E6F-AA13-6DBF4D63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73DB8-4C85-440F-9798-3B6F14F1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7006A-E927-4B65-92BB-CEDFC196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12B5C-18AA-4C8B-97F5-500EC53E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C1E-8A36-4BC2-A0F8-353E23A4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B3325-F1F4-4665-AD0C-D91C7B47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77BBD-54D4-4388-828F-612F1E7E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E0194-6378-4331-B685-8EAB962F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225F8-7E6D-417F-ADD1-AC162050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CFBB0-9818-4B94-9EB8-BA93FD6D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9720F-4480-47EE-AFFA-D0A0BD5E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FA2DA-20C4-4C4B-9A3A-504A9761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AA7D5-CE52-4769-A4B8-46FCB48D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BF537-3FFA-44BD-B90E-472EB925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D973D-45B9-4C11-A65C-0F5C7895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8CFB-567A-4729-9D99-32E2D8D9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73FCE-3317-442F-94E6-C170AE30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E10FB-42C4-4324-B331-D7D12382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39988-3ED6-4516-9BF3-DB62CF22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C6673-7866-443E-8346-B4EDDF16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B4D2E-B549-40DB-8D18-5E0198F5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3CAFC-C2E0-4560-8611-9CAB45B1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6C933-FDDB-4689-8AD5-2A9C6F99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8CAD5-892D-43DB-B65C-9B980CF1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2CAAE-8C01-47F7-B97A-45A821BD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A2EA6-25FA-4ECC-BBF1-031FFE0A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D6C-FD4D-4A5D-9734-F238C510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2F73E-800B-4192-9E91-E1645FDE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601-F7AD-44FB-A855-4B12CEFD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540-4A79-42B9-B220-5D7C73C9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BC3-FF94-4AE2-839E-B3F5B930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0C271-009A-4406-967D-6776BFCE5A7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0EC34-40CA-4ED8-95D9-9839E17DB1A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BDB1C-B6C4-4969-8B3C-FF187CDF4B2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90256-EEE6-41C0-862F-A565C6494B9A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B6A0C-EB24-4E25-B8DC-1286A59C49D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114720" y="530280"/>
            <a:ext cx="57736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urke, J. (2008). </a:t>
            </a:r>
            <a:r>
              <a:rPr b="0" i="1" lang="en-US" sz="2200" spc="-1" strike="noStrike">
                <a:solidFill>
                  <a:srgbClr val="ffffff"/>
                </a:solidFill>
                <a:latin typeface="Trebuchet MS"/>
              </a:rPr>
              <a:t>The English Teacher’s Companion 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(3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rebuchet MS"/>
              </a:rPr>
              <a:t>rd 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Ed.). Portsmouth, NH: Heinemann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do you want students to have learned or done by the end of this unit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s the guiding or essential question you want them to be able to answer by the end of the unit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sider your readings, observations and the Common Core Standards as a starting poin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6612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y is this an important, valid objective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relationship does it have to what came before or to what students need to learn to prosper later in their lives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ving decided where you want to go, now consider how you should get there. What will you model for students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will they demonstrate their understanding of key concepts or application of strategies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kinds of materials will your students produce (Ex. project, essay, dramatic performances, speeches, graphics, etc.)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much time should you allot for this unit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much work can you reasonably assume they will do each night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does this affect your use of class time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equipment or other resources do you need to teach this unit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do students need to know in order to understand this material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will you support all students in reaching the unit goal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must answer the following questions before you begin your unit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 u="sng">
                <a:solidFill>
                  <a:srgbClr val="6c6c6c"/>
                </a:solidFill>
                <a:uFillTx/>
                <a:latin typeface="Trebuchet MS"/>
              </a:rPr>
              <a:t>What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am I assessing in the end (e.g. their ability to take tests or their understanding of the characters or ideas discussed during the unit)?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 u="sng">
                <a:solidFill>
                  <a:srgbClr val="6c6c6c"/>
                </a:solidFill>
                <a:uFillTx/>
                <a:latin typeface="Trebuchet MS"/>
              </a:rPr>
              <a:t>How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can I best assess this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 u="sng">
                <a:solidFill>
                  <a:srgbClr val="6c6c6c"/>
                </a:solidFill>
                <a:uFillTx/>
                <a:latin typeface="Trebuchet MS"/>
              </a:rPr>
              <a:t>Why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am I assessing this?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obstacles might you reasonably expect to encounter during this unit of study (e.g. attitudes, limitations, resources, time)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will you solve those problems and why do you think this is an effective solution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2:27:05Z</dcterms:created>
  <dc:creator>Jeanine Beatty</dc:creator>
  <dc:description/>
  <dc:language>en-US</dc:language>
  <cp:lastModifiedBy>Darlene</cp:lastModifiedBy>
  <dcterms:modified xsi:type="dcterms:W3CDTF">2012-10-12T14:26:43Z</dcterms:modified>
  <cp:revision>1</cp:revision>
  <dc:subject/>
  <dc:title>Unit Plan Outline Brainstorming Ideas</dc:title>
</cp:coreProperties>
</file>